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855-EB0A-4F9C-AB97-76E09C10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A55-1F81-416B-9FB1-21A6978B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B50-38C3-4EF6-BF6F-59524CCB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500-289A-44A1-AA41-964097D4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8FF-3A09-41DE-B1FD-BB08999A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226-75CF-4906-A023-86CA506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0FF-14F3-4EC6-805F-C15D76FA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0B8-6A49-428C-BA97-AEC11D30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7A9-557A-4928-8D21-73DF97FD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906-FCC3-4A2B-9335-BD55D11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228-7129-4800-AB72-B089B97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AE6-145D-4572-A756-A294C47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9847-D461-4E60-BD29-C1C8CED2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4400" y="2666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12960" y="257652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0440" y="25765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9240" y="2957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1814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2, –1) makes one equation true, but not the o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for x and –1 for y in each equation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272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–1) is not a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46040" y="3505320"/>
            <a:ext cx="2546640" cy="1740600"/>
            <a:chOff x="3146040" y="3505320"/>
            <a:chExt cx="2546640" cy="1740600"/>
          </a:xfrm>
        </p:grpSpPr>
        <p:sp>
          <p:nvSpPr>
            <p:cNvPr id="157" name=""/>
            <p:cNvSpPr/>
            <p:nvPr/>
          </p:nvSpPr>
          <p:spPr>
            <a:xfrm>
              <a:off x="3357000" y="35053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46040" y="39625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67120" y="4370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333760" y="4876920"/>
              <a:ext cx="228960" cy="228600"/>
              <a:chOff x="5333760" y="4876920"/>
              <a:chExt cx="228960" cy="22860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412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33376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411120" y="3505320"/>
            <a:ext cx="2408400" cy="1830600"/>
            <a:chOff x="411120" y="3505320"/>
            <a:chExt cx="2408400" cy="1830600"/>
          </a:xfrm>
        </p:grpSpPr>
        <p:sp>
          <p:nvSpPr>
            <p:cNvPr id="167" name=""/>
            <p:cNvSpPr/>
            <p:nvPr/>
          </p:nvSpPr>
          <p:spPr>
            <a:xfrm>
              <a:off x="583920" y="35053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1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440" y="3994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300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2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09680" y="4754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8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60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066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olutions of a linear equation are on its graph. To find a solution of a system of linear equations, you need a point that each line has in common. In other words, you need their point 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2895480"/>
            <a:ext cx="2111400" cy="990720"/>
            <a:chOff x="914400" y="2895480"/>
            <a:chExt cx="2111400" cy="990720"/>
          </a:xfrm>
        </p:grpSpPr>
        <p:sp>
          <p:nvSpPr>
            <p:cNvPr id="176" name=""/>
            <p:cNvSpPr/>
            <p:nvPr/>
          </p:nvSpPr>
          <p:spPr>
            <a:xfrm>
              <a:off x="914400" y="289548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94720" y="28954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4680" y="3352680"/>
              <a:ext cx="14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14400" y="42670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(2, 3) is where the two lines intersect and is a solution of both equations, so (2, 3) is the solution of th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6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74760" y="2133720"/>
            <a:ext cx="7854840" cy="2019240"/>
            <a:chOff x="374760" y="2133720"/>
            <a:chExt cx="7854840" cy="2019240"/>
          </a:xfrm>
        </p:grpSpPr>
        <p:sp>
          <p:nvSpPr>
            <p:cNvPr id="182" name=""/>
            <p:cNvSpPr/>
            <p:nvPr/>
          </p:nvSpPr>
          <p:spPr>
            <a:xfrm>
              <a:off x="380880" y="2595960"/>
              <a:ext cx="78487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metimes it is difficult to tell exactly where the lines cross when you solve by graphing. It is good to confirm your answer by substituting it into both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76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19160" y="1857240"/>
            <a:ext cx="428760" cy="762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85360" y="1781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6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0080" y="20858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Graph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26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at (–1, –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34574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36720" y="6124680"/>
            <a:ext cx="69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 is the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98880" y="2695680"/>
            <a:ext cx="4032360" cy="1206360"/>
            <a:chOff x="4898880" y="2695680"/>
            <a:chExt cx="4032360" cy="1206360"/>
          </a:xfrm>
        </p:grpSpPr>
        <p:sp>
          <p:nvSpPr>
            <p:cNvPr id="194" name=""/>
            <p:cNvSpPr/>
            <p:nvPr/>
          </p:nvSpPr>
          <p:spPr>
            <a:xfrm>
              <a:off x="4898880" y="26956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2880" y="3076560"/>
              <a:ext cx="397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(–1, –1) into the syste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355480" y="368604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Verdana"/>
              </a:rPr>
              <a:t>y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7560" y="5407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y =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48520" y="48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88440" y="4905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314240" y="4067280"/>
            <a:ext cx="1857960" cy="1523520"/>
            <a:chOff x="4314240" y="4067280"/>
            <a:chExt cx="1857960" cy="1523520"/>
          </a:xfrm>
        </p:grpSpPr>
        <p:sp>
          <p:nvSpPr>
            <p:cNvPr id="201" name=""/>
            <p:cNvSpPr/>
            <p:nvPr/>
          </p:nvSpPr>
          <p:spPr>
            <a:xfrm>
              <a:off x="4599000" y="4067280"/>
              <a:ext cx="8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4524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4240" y="45561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(–1)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–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4200" y="505764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4524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4905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00440" y="3990960"/>
            <a:ext cx="2246040" cy="1980720"/>
            <a:chOff x="6400440" y="3990960"/>
            <a:chExt cx="2246040" cy="1980720"/>
          </a:xfrm>
        </p:grpSpPr>
        <p:sp>
          <p:nvSpPr>
            <p:cNvPr id="208" name=""/>
            <p:cNvSpPr/>
            <p:nvPr/>
          </p:nvSpPr>
          <p:spPr>
            <a:xfrm>
              <a:off x="6746400" y="39909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8560" y="452412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0440" y="44478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6240" y="4447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3600" y="4981320"/>
              <a:ext cx="15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440" y="5362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19760" y="5240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16216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5600" y="2085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305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9480" y="2533680"/>
            <a:ext cx="1729080" cy="619200"/>
            <a:chOff x="1239480" y="2533680"/>
            <a:chExt cx="1729080" cy="619200"/>
          </a:xfrm>
        </p:grpSpPr>
        <p:sp>
          <p:nvSpPr>
            <p:cNvPr id="221" name=""/>
            <p:cNvSpPr/>
            <p:nvPr/>
          </p:nvSpPr>
          <p:spPr>
            <a:xfrm>
              <a:off x="1239480" y="2552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 +    x =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724040" y="2533680"/>
              <a:ext cx="22860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4876920" y="2238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52880" y="3610080"/>
            <a:ext cx="3657600" cy="2438280"/>
            <a:chOff x="4952880" y="3610080"/>
            <a:chExt cx="3657600" cy="243828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5257800" y="368640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952880" y="361008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0080" y="3686040"/>
            <a:ext cx="3097080" cy="609480"/>
            <a:chOff x="5410080" y="3686040"/>
            <a:chExt cx="3097080" cy="609480"/>
          </a:xfrm>
        </p:grpSpPr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486040" y="371952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10080" y="368604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30840" y="38988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7480" y="391464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34080" y="4295880"/>
            <a:ext cx="2648520" cy="1933560"/>
            <a:chOff x="1234080" y="4295880"/>
            <a:chExt cx="2648520" cy="1933560"/>
          </a:xfrm>
        </p:grpSpPr>
        <p:grpSp>
          <p:nvGrpSpPr>
            <p:cNvPr id="233" name=""/>
            <p:cNvGrpSpPr/>
            <p:nvPr/>
          </p:nvGrpSpPr>
          <p:grpSpPr>
            <a:xfrm>
              <a:off x="1234080" y="4295880"/>
              <a:ext cx="1698480" cy="619200"/>
              <a:chOff x="1234080" y="4295880"/>
              <a:chExt cx="1698480" cy="619200"/>
            </a:xfrm>
          </p:grpSpPr>
          <p:sp>
            <p:nvSpPr>
              <p:cNvPr id="234" name=""/>
              <p:cNvSpPr/>
              <p:nvPr/>
            </p:nvSpPr>
            <p:spPr>
              <a:xfrm>
                <a:off x="1234080" y="4324320"/>
                <a:ext cx="169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 +    x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09640" y="4295880"/>
                <a:ext cx="1998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" name=""/>
            <p:cNvSpPr/>
            <p:nvPr/>
          </p:nvSpPr>
          <p:spPr>
            <a:xfrm>
              <a:off x="1495080" y="4934160"/>
              <a:ext cx="193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1719000" y="4924800"/>
              <a:ext cx="199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033360" y="4934160"/>
              <a:ext cx="1998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2777760" y="5562720"/>
              <a:ext cx="11048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53440" y="569628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5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1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1981080"/>
            <a:ext cx="4626000" cy="887400"/>
            <a:chOff x="304920" y="1981080"/>
            <a:chExt cx="4626000" cy="887400"/>
          </a:xfrm>
        </p:grpSpPr>
        <p:sp>
          <p:nvSpPr>
            <p:cNvPr id="246" name=""/>
            <p:cNvSpPr/>
            <p:nvPr/>
          </p:nvSpPr>
          <p:spPr>
            <a:xfrm>
              <a:off x="304920" y="2043000"/>
              <a:ext cx="462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heck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            into the syste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3292560" y="198108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5334120" y="2971800"/>
            <a:ext cx="3657600" cy="2438280"/>
            <a:chOff x="5334120" y="2971800"/>
            <a:chExt cx="3657600" cy="243828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639040" y="304812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334120" y="297180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91320" y="3048120"/>
            <a:ext cx="3097080" cy="609480"/>
            <a:chOff x="5791320" y="3048120"/>
            <a:chExt cx="3097080" cy="60948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867280" y="308160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304812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12080" y="326088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48720" y="327672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410080" y="5791320"/>
            <a:ext cx="4191120" cy="685800"/>
            <a:chOff x="5410080" y="5791320"/>
            <a:chExt cx="4191120" cy="685800"/>
          </a:xfrm>
        </p:grpSpPr>
        <p:sp>
          <p:nvSpPr>
            <p:cNvPr id="257" name=""/>
            <p:cNvSpPr/>
            <p:nvPr/>
          </p:nvSpPr>
          <p:spPr>
            <a:xfrm>
              <a:off x="5410080" y="5867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olution is 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7848360" y="579132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2286000" y="2743200"/>
            <a:ext cx="3276720" cy="3479040"/>
            <a:chOff x="2286000" y="2743200"/>
            <a:chExt cx="3276720" cy="3479040"/>
          </a:xfrm>
        </p:grpSpPr>
        <p:sp>
          <p:nvSpPr>
            <p:cNvPr id="260" name=""/>
            <p:cNvSpPr/>
            <p:nvPr/>
          </p:nvSpPr>
          <p:spPr>
            <a:xfrm>
              <a:off x="2286000" y="3505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367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+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5"/>
            <a:stretch/>
          </p:blipFill>
          <p:spPr>
            <a:xfrm>
              <a:off x="3352680" y="3586320"/>
              <a:ext cx="23976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6"/>
            <a:stretch/>
          </p:blipFill>
          <p:spPr>
            <a:xfrm>
              <a:off x="3648240" y="3581280"/>
              <a:ext cx="61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7"/>
            <a:stretch/>
          </p:blipFill>
          <p:spPr>
            <a:xfrm>
              <a:off x="3000240" y="4334040"/>
              <a:ext cx="119088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4356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8"/>
            <a:stretch/>
          </p:blipFill>
          <p:spPr>
            <a:xfrm>
              <a:off x="3638520" y="5143680"/>
              <a:ext cx="5526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58320" y="51814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1240" y="576252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3505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2880" y="559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3352680" y="2743200"/>
              <a:ext cx="16192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0"/>
            <a:stretch/>
          </p:blipFill>
          <p:spPr>
            <a:xfrm>
              <a:off x="2374920" y="3581280"/>
              <a:ext cx="6523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0" y="3048120"/>
            <a:ext cx="2044800" cy="2819160"/>
            <a:chOff x="0" y="3048120"/>
            <a:chExt cx="2044800" cy="2819160"/>
          </a:xfrm>
        </p:grpSpPr>
        <p:sp>
          <p:nvSpPr>
            <p:cNvPr id="274" name=""/>
            <p:cNvSpPr/>
            <p:nvPr/>
          </p:nvSpPr>
          <p:spPr>
            <a:xfrm>
              <a:off x="391320" y="304812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600" y="3689280"/>
              <a:ext cx="15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11"/>
            <a:stretch/>
          </p:blipFill>
          <p:spPr>
            <a:xfrm>
              <a:off x="914400" y="3581280"/>
              <a:ext cx="619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52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35053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2"/>
            <a:stretch/>
          </p:blipFill>
          <p:spPr>
            <a:xfrm>
              <a:off x="190440" y="433404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3"/>
            <a:stretch/>
          </p:blipFill>
          <p:spPr>
            <a:xfrm>
              <a:off x="933480" y="4334040"/>
              <a:ext cx="9716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200160" y="5095800"/>
              <a:ext cx="4190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5"/>
            <a:stretch/>
          </p:blipFill>
          <p:spPr>
            <a:xfrm>
              <a:off x="876240" y="510552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268280" y="5029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0" y="3581280"/>
              <a:ext cx="6541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83816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65680" y="18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32480" y="219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42880" y="3105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832200" y="2038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Graph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89560" y="27558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(–2, 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71800" y="32878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(–2, 3) into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58000" y="4095720"/>
            <a:ext cx="1806480" cy="1526400"/>
            <a:chOff x="6858000" y="4095720"/>
            <a:chExt cx="1806480" cy="1526400"/>
          </a:xfrm>
        </p:grpSpPr>
        <p:sp>
          <p:nvSpPr>
            <p:cNvPr id="295" name=""/>
            <p:cNvSpPr/>
            <p:nvPr/>
          </p:nvSpPr>
          <p:spPr>
            <a:xfrm>
              <a:off x="6976080" y="409572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99120" y="47052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8000" y="4628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5200" y="4628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3960" y="51624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9760" y="5009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886200" y="4095720"/>
            <a:ext cx="2590920" cy="1983600"/>
            <a:chOff x="3886200" y="4095720"/>
            <a:chExt cx="2590920" cy="1983600"/>
          </a:xfrm>
        </p:grpSpPr>
        <p:sp>
          <p:nvSpPr>
            <p:cNvPr id="302" name=""/>
            <p:cNvSpPr/>
            <p:nvPr/>
          </p:nvSpPr>
          <p:spPr>
            <a:xfrm>
              <a:off x="4114440" y="409572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0520" y="470520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15160" y="5162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86200" y="4628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5760" y="56196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5466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9720" y="4628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55480" y="6000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is the solution of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908720" y="3530520"/>
            <a:ext cx="1429560" cy="1708920"/>
            <a:chOff x="1908720" y="3530520"/>
            <a:chExt cx="1429560" cy="1708920"/>
          </a:xfrm>
        </p:grpSpPr>
        <p:sp>
          <p:nvSpPr>
            <p:cNvPr id="311" name=""/>
            <p:cNvSpPr/>
            <p:nvPr/>
          </p:nvSpPr>
          <p:spPr>
            <a:xfrm>
              <a:off x="1908720" y="35305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6600" y="49021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–2</a:t>
              </a: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–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990800"/>
            <a:ext cx="304560" cy="1114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1800" y="2647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18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1886040"/>
            <a:ext cx="1638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685800" y="4476600"/>
            <a:ext cx="3276720" cy="1221840"/>
            <a:chOff x="685800" y="4476600"/>
            <a:chExt cx="3276720" cy="1221840"/>
          </a:xfrm>
        </p:grpSpPr>
        <p:sp>
          <p:nvSpPr>
            <p:cNvPr id="320" name=""/>
            <p:cNvSpPr/>
            <p:nvPr/>
          </p:nvSpPr>
          <p:spPr>
            <a:xfrm>
              <a:off x="1042560" y="44766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485748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525780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09680" y="525276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0" y="52387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724280" y="21146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800600" y="3486240"/>
            <a:ext cx="3962520" cy="2819160"/>
            <a:chOff x="4800600" y="3486240"/>
            <a:chExt cx="3962520" cy="28191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5105520" y="356220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4943520" y="400536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952880" y="401940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50760" y="389268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386712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0600" y="348624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962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51040" y="24955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62120" y="1886040"/>
            <a:ext cx="1638360" cy="695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960800" y="600084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is (3, –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30290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(3, –2)             into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590920" y="4110120"/>
            <a:ext cx="2743200" cy="1862640"/>
            <a:chOff x="2590920" y="4110120"/>
            <a:chExt cx="2743200" cy="1862640"/>
          </a:xfrm>
        </p:grpSpPr>
        <p:sp>
          <p:nvSpPr>
            <p:cNvPr id="341" name=""/>
            <p:cNvSpPr/>
            <p:nvPr/>
          </p:nvSpPr>
          <p:spPr>
            <a:xfrm>
              <a:off x="2590920" y="45673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19720" y="4567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37480" y="4110120"/>
              <a:ext cx="14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65160" y="45529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2)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40160" y="50101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 – 2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52440" y="540540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24280" y="539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2876400"/>
            <a:ext cx="3962520" cy="2819160"/>
            <a:chOff x="5181480" y="2876400"/>
            <a:chExt cx="3962520" cy="281916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5486400" y="295236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5324400" y="339552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333760" y="340956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31640" y="328284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7480" y="325728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1480" y="287640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8280" y="3790800"/>
            <a:ext cx="2949480" cy="2819160"/>
            <a:chOff x="98280" y="3790800"/>
            <a:chExt cx="2949480" cy="2819160"/>
          </a:xfrm>
        </p:grpSpPr>
        <p:sp>
          <p:nvSpPr>
            <p:cNvPr id="356" name=""/>
            <p:cNvSpPr/>
            <p:nvPr/>
          </p:nvSpPr>
          <p:spPr>
            <a:xfrm>
              <a:off x="98280" y="4552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98280" y="4705200"/>
              <a:ext cx="2949480" cy="733320"/>
              <a:chOff x="98280" y="4705200"/>
              <a:chExt cx="2949480" cy="733320"/>
            </a:xfrm>
          </p:grpSpPr>
          <p:pic>
            <p:nvPicPr>
              <p:cNvPr id="3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2640" y="4705200"/>
                <a:ext cx="2286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98280" y="4849560"/>
                <a:ext cx="294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98280" y="546696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 1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2920" y="595620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–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0400" y="4552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280" y="5924160"/>
              <a:ext cx="7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880" y="3790800"/>
              <a:ext cx="142884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</a:t>
            </a: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198800" cy="1562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447920" y="167652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en and Jenni are reading the same book. Wren is on page 14 and reads 2 pages every night. Jenni is on page 6 and reads 3 pages every night. After how many nights will they have read the same number of pages? How many pages will tha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xpress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1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–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expression in slope-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160" y="2485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64640" y="24994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6840" y="4128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 x +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6840" y="4724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31504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457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865080" y="1600200"/>
            <a:ext cx="4736160" cy="762120"/>
            <a:chOff x="865080" y="1600200"/>
            <a:chExt cx="4736160" cy="762120"/>
          </a:xfrm>
        </p:grpSpPr>
        <p:grpSp>
          <p:nvGrpSpPr>
            <p:cNvPr id="369" name=""/>
            <p:cNvGrpSpPr/>
            <p:nvPr/>
          </p:nvGrpSpPr>
          <p:grpSpPr>
            <a:xfrm>
              <a:off x="865080" y="1600200"/>
              <a:ext cx="761760" cy="762120"/>
              <a:chOff x="865080" y="1600200"/>
              <a:chExt cx="761760" cy="762120"/>
            </a:xfrm>
          </p:grpSpPr>
          <p:pic>
            <p:nvPicPr>
              <p:cNvPr id="3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9864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9417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838080" y="2438280"/>
            <a:ext cx="72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nights it takes for the number of pages read to be the same for both gir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0400" y="411480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en on page 14   Reads 2 pages a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457200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 on page 6     Reads 3 pages a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838080" y="1523880"/>
            <a:ext cx="2789640" cy="648000"/>
            <a:chOff x="838080" y="1523880"/>
            <a:chExt cx="2789640" cy="648000"/>
          </a:xfrm>
        </p:grpSpPr>
        <p:grpSp>
          <p:nvGrpSpPr>
            <p:cNvPr id="378" name=""/>
            <p:cNvGrpSpPr/>
            <p:nvPr/>
          </p:nvGrpSpPr>
          <p:grpSpPr>
            <a:xfrm>
              <a:off x="838080" y="1523880"/>
              <a:ext cx="571680" cy="648000"/>
              <a:chOff x="838080" y="1523880"/>
              <a:chExt cx="571680" cy="648000"/>
            </a:xfrm>
          </p:grpSpPr>
          <p:pic>
            <p:nvPicPr>
              <p:cNvPr id="3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571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961560" y="1556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593720" y="15706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38080" y="2133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number of pages read by each girl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nigh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he total pages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002320" y="3809880"/>
            <a:ext cx="6836760" cy="917640"/>
            <a:chOff x="2002320" y="3809880"/>
            <a:chExt cx="6836760" cy="917640"/>
          </a:xfrm>
        </p:grpSpPr>
        <p:sp>
          <p:nvSpPr>
            <p:cNvPr id="384" name=""/>
            <p:cNvSpPr/>
            <p:nvPr/>
          </p:nvSpPr>
          <p:spPr>
            <a:xfrm>
              <a:off x="2002320" y="3809880"/>
              <a:ext cx="104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6560" y="41925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33920" y="3902040"/>
              <a:ext cx="1447560" cy="82548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r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24040" y="3811680"/>
              <a:ext cx="962640" cy="82548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7840" y="4192560"/>
              <a:ext cx="78264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5200" y="3886200"/>
              <a:ext cx="1523880" cy="82548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ready r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930240" y="4802040"/>
            <a:ext cx="7098120" cy="464400"/>
            <a:chOff x="930240" y="4802040"/>
            <a:chExt cx="7098120" cy="464400"/>
          </a:xfrm>
        </p:grpSpPr>
        <p:sp>
          <p:nvSpPr>
            <p:cNvPr id="391" name=""/>
            <p:cNvSpPr/>
            <p:nvPr/>
          </p:nvSpPr>
          <p:spPr>
            <a:xfrm>
              <a:off x="930240" y="4802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00120" y="480204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07680" y="480204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82920" y="480204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02520" y="480204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1920" y="480672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0240" y="480204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930240" y="5305320"/>
            <a:ext cx="7038360" cy="523080"/>
            <a:chOff x="930240" y="5305320"/>
            <a:chExt cx="7038360" cy="523080"/>
          </a:xfrm>
        </p:grpSpPr>
        <p:sp>
          <p:nvSpPr>
            <p:cNvPr id="399" name=""/>
            <p:cNvSpPr/>
            <p:nvPr/>
          </p:nvSpPr>
          <p:spPr>
            <a:xfrm>
              <a:off x="930240" y="5335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e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00120" y="53211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31440" y="53355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2000" y="53211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50040" y="530532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55680" y="532116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14000" y="5368680"/>
              <a:ext cx="35460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838080" y="1440000"/>
            <a:ext cx="1791000" cy="704880"/>
            <a:chOff x="838080" y="1440000"/>
            <a:chExt cx="1791000" cy="704880"/>
          </a:xfrm>
        </p:grpSpPr>
        <p:sp>
          <p:nvSpPr>
            <p:cNvPr id="408" name=""/>
            <p:cNvSpPr/>
            <p:nvPr/>
          </p:nvSpPr>
          <p:spPr>
            <a:xfrm>
              <a:off x="1645200" y="1562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838080" y="1440000"/>
              <a:ext cx="704880" cy="704880"/>
              <a:chOff x="838080" y="1440000"/>
              <a:chExt cx="704880" cy="704880"/>
            </a:xfrm>
          </p:grpSpPr>
          <p:pic>
            <p:nvPicPr>
              <p:cNvPr id="4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400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042560" y="15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00400" y="3497400"/>
            <a:ext cx="2857680" cy="2981520"/>
            <a:chOff x="3200400" y="3497400"/>
            <a:chExt cx="2857680" cy="298152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3200400" y="34974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"/>
            <p:cNvGrpSpPr/>
            <p:nvPr/>
          </p:nvGrpSpPr>
          <p:grpSpPr>
            <a:xfrm>
              <a:off x="5168520" y="3855960"/>
              <a:ext cx="878040" cy="683280"/>
              <a:chOff x="5168520" y="3855960"/>
              <a:chExt cx="878040" cy="683280"/>
            </a:xfrm>
          </p:grpSpPr>
          <p:sp>
            <p:nvSpPr>
              <p:cNvPr id="416" name=""/>
              <p:cNvSpPr/>
              <p:nvPr/>
            </p:nvSpPr>
            <p:spPr>
              <a:xfrm>
                <a:off x="5168520" y="3855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270040" y="4201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(8, 30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4292640" y="620244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igh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762120" y="204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+ 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s appear to intersect at (8, 30). So, the number of pages read will be the same at 8 nights with a total of 30 pag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21" name="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110556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7000" y="274320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Wren to read 30 p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61840" y="37018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Jenni to read 30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248120" y="4006800"/>
            <a:ext cx="3873240" cy="612000"/>
            <a:chOff x="1248120" y="4006800"/>
            <a:chExt cx="3873240" cy="612000"/>
          </a:xfrm>
        </p:grpSpPr>
        <p:sp>
          <p:nvSpPr>
            <p:cNvPr id="429" name=""/>
            <p:cNvSpPr/>
            <p:nvPr/>
          </p:nvSpPr>
          <p:spPr>
            <a:xfrm>
              <a:off x="1248120" y="4159080"/>
              <a:ext cx="31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 = 24 + 6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1188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75880" y="3092400"/>
            <a:ext cx="4626000" cy="906480"/>
            <a:chOff x="875880" y="3092400"/>
            <a:chExt cx="4626000" cy="906480"/>
          </a:xfrm>
        </p:grpSpPr>
        <p:sp>
          <p:nvSpPr>
            <p:cNvPr id="432" name=""/>
            <p:cNvSpPr/>
            <p:nvPr/>
          </p:nvSpPr>
          <p:spPr>
            <a:xfrm>
              <a:off x="87588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6612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4 = 16 + 14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9240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9880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600200" y="160020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deo club A charges $10 for membership and $3 per movie rental. Video club B charges $15 for membership and $2 per movie rental. For how many movie rentals will the cost be the same at both video clubs? What is tha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441" name="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914400" y="243828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movies rented for which the cost will be the same at both clu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809880"/>
            <a:ext cx="6912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tal price: Club A $3     Club 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hip: Club A $10   Club B $1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838080" y="1569960"/>
            <a:ext cx="2789640" cy="647640"/>
            <a:chOff x="838080" y="1569960"/>
            <a:chExt cx="2789640" cy="647640"/>
          </a:xfrm>
        </p:grpSpPr>
        <p:grpSp>
          <p:nvGrpSpPr>
            <p:cNvPr id="448" name=""/>
            <p:cNvGrpSpPr/>
            <p:nvPr/>
          </p:nvGrpSpPr>
          <p:grpSpPr>
            <a:xfrm>
              <a:off x="838080" y="1569960"/>
              <a:ext cx="571680" cy="647640"/>
              <a:chOff x="838080" y="1569960"/>
              <a:chExt cx="571680" cy="647640"/>
            </a:xfrm>
          </p:grpSpPr>
          <p:pic>
            <p:nvPicPr>
              <p:cNvPr id="4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699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961560" y="1601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1593720" y="16160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838080" y="225576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cost of Club A and one for Club B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movies rented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58920" y="3957480"/>
            <a:ext cx="6100560" cy="891360"/>
            <a:chOff x="2158920" y="3957480"/>
            <a:chExt cx="6100560" cy="891360"/>
          </a:xfrm>
        </p:grpSpPr>
        <p:sp>
          <p:nvSpPr>
            <p:cNvPr id="454" name=""/>
            <p:cNvSpPr/>
            <p:nvPr/>
          </p:nvSpPr>
          <p:spPr>
            <a:xfrm>
              <a:off x="2158920" y="3957480"/>
              <a:ext cx="89388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45400" y="43401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92520" y="4340160"/>
              <a:ext cx="95580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24280" y="4145040"/>
              <a:ext cx="1319400" cy="70380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e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34040" y="4363920"/>
              <a:ext cx="682200" cy="39888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72480" y="4071960"/>
              <a:ext cx="1287000" cy="70380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mber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ip f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066680" y="4998960"/>
            <a:ext cx="6755400" cy="464400"/>
            <a:chOff x="1066680" y="4998960"/>
            <a:chExt cx="6755400" cy="464400"/>
          </a:xfrm>
        </p:grpSpPr>
        <p:sp>
          <p:nvSpPr>
            <p:cNvPr id="461" name=""/>
            <p:cNvSpPr/>
            <p:nvPr/>
          </p:nvSpPr>
          <p:spPr>
            <a:xfrm>
              <a:off x="1066680" y="499896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36560" y="49989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20640" y="49989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71960" y="49989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15240" y="49989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44560" y="500364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93960" y="49989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066680" y="5684760"/>
            <a:ext cx="6783840" cy="489960"/>
            <a:chOff x="1066680" y="5684760"/>
            <a:chExt cx="6783840" cy="489960"/>
          </a:xfrm>
        </p:grpSpPr>
        <p:sp>
          <p:nvSpPr>
            <p:cNvPr id="469" name=""/>
            <p:cNvSpPr/>
            <p:nvPr/>
          </p:nvSpPr>
          <p:spPr>
            <a:xfrm>
              <a:off x="1066680" y="571500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6560" y="570060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44400" y="571500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1040" y="570060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62760" y="56847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68320" y="570060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22400" y="57117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838080" y="1523880"/>
            <a:ext cx="1791000" cy="704880"/>
            <a:chOff x="838080" y="1523880"/>
            <a:chExt cx="1791000" cy="704880"/>
          </a:xfrm>
        </p:grpSpPr>
        <p:sp>
          <p:nvSpPr>
            <p:cNvPr id="478" name=""/>
            <p:cNvSpPr/>
            <p:nvPr/>
          </p:nvSpPr>
          <p:spPr>
            <a:xfrm>
              <a:off x="164520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838080" y="1523880"/>
              <a:ext cx="704880" cy="704880"/>
              <a:chOff x="838080" y="1523880"/>
              <a:chExt cx="704880" cy="704880"/>
            </a:xfrm>
          </p:grpSpPr>
          <p:pic>
            <p:nvPicPr>
              <p:cNvPr id="4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104256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9144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The lines appear to intersect at (5, 25). So, the cost will be the same for 5 rentals and the total cost will be $2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86" name="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118188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42720" y="2743200"/>
            <a:ext cx="72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A to reach $2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3657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B to reach $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358280" y="4006800"/>
            <a:ext cx="4219920" cy="612000"/>
            <a:chOff x="1358280" y="4006800"/>
            <a:chExt cx="4219920" cy="612000"/>
          </a:xfrm>
        </p:grpSpPr>
        <p:sp>
          <p:nvSpPr>
            <p:cNvPr id="494" name=""/>
            <p:cNvSpPr/>
            <p:nvPr/>
          </p:nvSpPr>
          <p:spPr>
            <a:xfrm>
              <a:off x="1358280" y="4159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5 = 10 + 15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6872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952200" y="3092400"/>
            <a:ext cx="4626000" cy="906480"/>
            <a:chOff x="952200" y="3092400"/>
            <a:chExt cx="4626000" cy="906480"/>
          </a:xfrm>
        </p:grpSpPr>
        <p:sp>
          <p:nvSpPr>
            <p:cNvPr id="497" name=""/>
            <p:cNvSpPr/>
            <p:nvPr/>
          </p:nvSpPr>
          <p:spPr>
            <a:xfrm>
              <a:off x="95220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4244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0 = 15 + 10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6872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1452600"/>
            <a:ext cx="79246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, –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67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289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514600" y="2467080"/>
            <a:ext cx="1333440" cy="733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2514600" y="3314880"/>
            <a:ext cx="1905120" cy="3427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286000" y="25909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4419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2543040" y="4533840"/>
            <a:ext cx="1724040" cy="343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2548080" y="5143680"/>
            <a:ext cx="2095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solutions of linear equations in two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ystems of linear equations in two variables by grap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1732680"/>
            <a:ext cx="7924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oy has 5 collectable stamps and will buy 2 more each month. Ronald has 25 collectable stamps and will sell 3 each month. After how many months will they have the same number of stamps?                 How many will that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52680" y="274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43200" y="513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0720" y="25146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99400" y="24573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82120" y="3124080"/>
            <a:ext cx="15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5486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3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s of linear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 of a system of linear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080" y="159228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of two or more linear equations containing two or more variabl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lution of a 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two variables is an ordered pair that satisfies each equation in the system. So, if an ordered pair is a solution, it will make both equation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Systems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3623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9520" y="579132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5, 2) makes both equation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3760" y="6172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2) is the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23120" y="395460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5 for x and 2 for y in each equation in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84280" y="3124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9200" y="2362320"/>
            <a:ext cx="1695600" cy="7333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09480" y="3505320"/>
            <a:ext cx="2221920" cy="2425320"/>
            <a:chOff x="609480" y="3505320"/>
            <a:chExt cx="2221920" cy="2425320"/>
          </a:xfrm>
        </p:grpSpPr>
        <p:sp>
          <p:nvSpPr>
            <p:cNvPr id="75" name=""/>
            <p:cNvSpPr/>
            <p:nvPr/>
          </p:nvSpPr>
          <p:spPr>
            <a:xfrm>
              <a:off x="1084320" y="50292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2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 rot="10800000">
              <a:off x="1599840" y="540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94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7400" y="42670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56560" y="541008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4475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143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5740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505320" y="3733920"/>
            <a:ext cx="2666880" cy="2273040"/>
            <a:chOff x="3505320" y="3733920"/>
            <a:chExt cx="2666880" cy="2273040"/>
          </a:xfrm>
        </p:grpSpPr>
        <p:sp>
          <p:nvSpPr>
            <p:cNvPr id="84" name=""/>
            <p:cNvSpPr/>
            <p:nvPr/>
          </p:nvSpPr>
          <p:spPr>
            <a:xfrm>
              <a:off x="3505320" y="4452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1280" y="43005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52880" y="43099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50292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– 2 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37640" y="547704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 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81000" y="54864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3920" y="3733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80880" y="2224080"/>
            <a:ext cx="7855200" cy="1639080"/>
            <a:chOff x="380880" y="2224080"/>
            <a:chExt cx="7855200" cy="1639080"/>
          </a:xfrm>
        </p:grpSpPr>
        <p:sp>
          <p:nvSpPr>
            <p:cNvPr id="92" name=""/>
            <p:cNvSpPr/>
            <p:nvPr/>
          </p:nvSpPr>
          <p:spPr>
            <a:xfrm>
              <a:off x="387360" y="267192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n ordered pair does not satisfy the first equation in the system, there is no reason to check the other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224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Systems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40040" y="228600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43828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00480" y="21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27120" y="25909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76120" y="3200400"/>
            <a:ext cx="2438640" cy="1710720"/>
            <a:chOff x="276120" y="3200400"/>
            <a:chExt cx="2438640" cy="1710720"/>
          </a:xfrm>
        </p:grpSpPr>
        <p:sp>
          <p:nvSpPr>
            <p:cNvPr id="101" name=""/>
            <p:cNvSpPr/>
            <p:nvPr/>
          </p:nvSpPr>
          <p:spPr>
            <a:xfrm>
              <a:off x="276120" y="37339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3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79320" y="3200400"/>
              <a:ext cx="2035440" cy="1710720"/>
              <a:chOff x="679320" y="3200400"/>
              <a:chExt cx="2035440" cy="1710720"/>
            </a:xfrm>
          </p:grpSpPr>
          <p:sp>
            <p:nvSpPr>
              <p:cNvPr id="103" name=""/>
              <p:cNvSpPr/>
              <p:nvPr/>
            </p:nvSpPr>
            <p:spPr>
              <a:xfrm>
                <a:off x="889920" y="3200400"/>
                <a:ext cx="148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3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28960" y="36576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79320" y="4114800"/>
                <a:ext cx="203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+ 6 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55280" y="44514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 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895480" y="3200400"/>
            <a:ext cx="2514600" cy="1447920"/>
            <a:chOff x="2895480" y="3200400"/>
            <a:chExt cx="2514600" cy="1447920"/>
          </a:xfrm>
        </p:grpSpPr>
        <p:sp>
          <p:nvSpPr>
            <p:cNvPr id="109" name=""/>
            <p:cNvSpPr/>
            <p:nvPr/>
          </p:nvSpPr>
          <p:spPr>
            <a:xfrm>
              <a:off x="355320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–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0" y="3657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1760" y="414648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41880" y="32004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 for x and 2 for y in each equation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10552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–2, 2) makes one equation true but not the o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28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2) is not a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4120" y="4267080"/>
            <a:ext cx="304560" cy="304920"/>
            <a:chOff x="5334120" y="4267080"/>
            <a:chExt cx="304560" cy="304920"/>
          </a:xfrm>
        </p:grpSpPr>
        <p:sp>
          <p:nvSpPr>
            <p:cNvPr id="118" name=""/>
            <p:cNvSpPr/>
            <p:nvPr/>
          </p:nvSpPr>
          <p:spPr>
            <a:xfrm flipH="1">
              <a:off x="5334120" y="4267080"/>
              <a:ext cx="2282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4267080"/>
              <a:ext cx="3045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286000" y="4373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14400" y="2590920"/>
            <a:ext cx="3898080" cy="840600"/>
            <a:chOff x="-14400" y="2590920"/>
            <a:chExt cx="3898080" cy="840600"/>
          </a:xfrm>
        </p:grpSpPr>
        <p:sp>
          <p:nvSpPr>
            <p:cNvPr id="124" name=""/>
            <p:cNvSpPr/>
            <p:nvPr/>
          </p:nvSpPr>
          <p:spPr>
            <a:xfrm>
              <a:off x="-14400" y="2666880"/>
              <a:ext cx="17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1, 3)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6680" y="2590920"/>
              <a:ext cx="261360" cy="76176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0080" y="259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8680" y="29718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3505320"/>
            <a:ext cx="2438640" cy="1828800"/>
            <a:chOff x="380880" y="3505320"/>
            <a:chExt cx="2438640" cy="1828800"/>
          </a:xfrm>
        </p:grpSpPr>
        <p:sp>
          <p:nvSpPr>
            <p:cNvPr id="129" name=""/>
            <p:cNvSpPr/>
            <p:nvPr/>
          </p:nvSpPr>
          <p:spPr>
            <a:xfrm>
              <a:off x="570600" y="3505320"/>
              <a:ext cx="14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200" y="3994200"/>
              <a:ext cx="16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93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3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314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9680" y="46022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30120" y="55306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1, 3) makes both equations tr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1 for x and 3 for y in each equation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28040" y="3505320"/>
            <a:ext cx="2564640" cy="1740600"/>
            <a:chOff x="3128040" y="3505320"/>
            <a:chExt cx="2564640" cy="1740600"/>
          </a:xfrm>
        </p:grpSpPr>
        <p:sp>
          <p:nvSpPr>
            <p:cNvPr id="139" name=""/>
            <p:cNvSpPr/>
            <p:nvPr/>
          </p:nvSpPr>
          <p:spPr>
            <a:xfrm>
              <a:off x="3334680" y="35053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8040" y="399564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47880" y="441792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+ 3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83200" y="46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1200" y="601992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3) is the solution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1T15:50:26Z</dcterms:modified>
  <cp:revision>56</cp:revision>
  <dc:subject/>
  <dc:title>Slide 1</dc:title>
</cp:coreProperties>
</file>